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A92F-2B0D-44FC-AAF2-5BFBBB59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F99C-5912-4D72-96C4-1D74DF6A3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九年义务教育六年制小学英语第二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4 Do you like pear? Lesson 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E93-435F-4158-AB79-918249CC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图片看动画，根据听力录音做题，考察学生对本课知识的撑握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A8F-1778-4012-B62A-4963364A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E80-7FA8-4C92-8F82-EC0943F0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E62-0714-4D42-992D-FF1E0B54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FA2-56BA-40DF-A85F-E22DA8EB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996-9E22-4C82-846B-5BF76281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2C4-FDB5-4D5E-A348-636B2029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96A-5CC3-4B07-9EB3-30647D83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3F4-D40E-420F-9C9F-1A4A20C1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D64-0DFE-4BFF-AA31-79B795A9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FDF-F54A-4A8D-AB19-7D6093E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DCA-B85E-475E-9729-8EBC7360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7CA-A2D9-4E12-8944-C42192C0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2B59-93AC-4244-A1A6-FB132F0CA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.png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05080" y="2584440"/>
            <a:ext cx="464832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 Black"/>
                <a:ea typeface="华文彩云"/>
              </a:rPr>
              <a:t>Module Six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16000" y="4373640"/>
            <a:ext cx="89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Unit 1What do you do at the weekend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038320" y="1339920"/>
            <a:ext cx="52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外研版三年级英语下册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81680" y="6010200"/>
            <a:ext cx="1981440" cy="8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826920" y="1413000"/>
            <a:ext cx="3600720" cy="1739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Let’s listen and choose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31" name="Picture 5" descr="按钮-返回-1"/>
          <p:cNvPicPr/>
          <p:nvPr/>
        </p:nvPicPr>
        <p:blipFill>
          <a:blip r:embed="rId2"/>
          <a:stretch/>
        </p:blipFill>
        <p:spPr>
          <a:xfrm>
            <a:off x="1547640" y="5589720"/>
            <a:ext cx="1219320" cy="812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eb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rcRect l="11007" t="5985" r="6991" b="7308"/>
          <a:stretch/>
        </p:blipFill>
        <p:spPr>
          <a:xfrm>
            <a:off x="2050920" y="2060640"/>
            <a:ext cx="5105520" cy="38606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grpSp>
        <p:nvGrpSpPr>
          <p:cNvPr id="134" name="Group 9"/>
          <p:cNvGrpSpPr/>
          <p:nvPr/>
        </p:nvGrpSpPr>
        <p:grpSpPr>
          <a:xfrm>
            <a:off x="826920" y="333360"/>
            <a:ext cx="3313080" cy="1510920"/>
            <a:chOff x="826920" y="333360"/>
            <a:chExt cx="3313080" cy="1510920"/>
          </a:xfrm>
        </p:grpSpPr>
        <p:sp>
          <p:nvSpPr>
            <p:cNvPr id="135" name="AutoShape 7"/>
            <p:cNvSpPr/>
            <p:nvPr/>
          </p:nvSpPr>
          <p:spPr>
            <a:xfrm>
              <a:off x="826920" y="333360"/>
              <a:ext cx="3313080" cy="1510920"/>
            </a:xfrm>
            <a:prstGeom prst="cloudCallout">
              <a:avLst>
                <a:gd name="adj1" fmla="val -43736"/>
                <a:gd name="adj2" fmla="val 47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cc"/>
                </a:solidFill>
                <a:latin typeface="Times New Roman"/>
              </a:endParaRPr>
            </a:p>
          </p:txBody>
        </p:sp>
        <p:sp>
          <p:nvSpPr>
            <p:cNvPr id="136" name="WordArt 8"/>
            <p:cNvSpPr txBox="1"/>
            <p:nvPr/>
          </p:nvSpPr>
          <p:spPr>
            <a:xfrm>
              <a:off x="1353240" y="599760"/>
              <a:ext cx="2152440" cy="75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ff0066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Let's chant</a:t>
              </a:r>
              <a:endPara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37" name="Picture 10" descr="按钮-返回-1"/>
          <p:cNvPicPr/>
          <p:nvPr/>
        </p:nvPicPr>
        <p:blipFill>
          <a:blip r:embed="rId2"/>
          <a:stretch/>
        </p:blipFill>
        <p:spPr>
          <a:xfrm>
            <a:off x="7924680" y="604512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923760"/>
          <a:ext cx="9163080" cy="5499360"/>
        </p:xfrm>
        <a:graphic>
          <a:graphicData uri="http://schemas.openxmlformats.org/drawingml/2006/table">
            <a:tbl>
              <a:tblPr/>
              <a:tblGrid>
                <a:gridCol w="1557360"/>
                <a:gridCol w="1967040"/>
                <a:gridCol w="2082600"/>
                <a:gridCol w="1351080"/>
                <a:gridCol w="1574640"/>
                <a:gridCol w="63036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y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ketball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 swimming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ch TV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 shopping</a:t>
                      </a:r>
                      <a:endParaRPr b="0" lang="en-US" sz="28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√</a:t>
                      </a:r>
                      <a:endParaRPr b="0" lang="en-US" sz="54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√</a:t>
                      </a:r>
                      <a:endParaRPr b="0" lang="en-US" sz="54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 …</a:t>
                      </a:r>
                      <a:endParaRPr b="0" lang="en-US" sz="32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ext Box 72"/>
          <p:cNvSpPr/>
          <p:nvPr/>
        </p:nvSpPr>
        <p:spPr>
          <a:xfrm>
            <a:off x="2862360" y="0"/>
            <a:ext cx="26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nterview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40" name="Picture 166" descr="按钮-下一页-1"/>
          <p:cNvPicPr/>
          <p:nvPr/>
        </p:nvPicPr>
        <p:blipFill>
          <a:blip r:embed="rId2"/>
          <a:stretch/>
        </p:blipFill>
        <p:spPr>
          <a:xfrm rot="20637000">
            <a:off x="6975360" y="6311520"/>
            <a:ext cx="674640" cy="561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7" descr="按钮-返回-1"/>
          <p:cNvPicPr/>
          <p:nvPr/>
        </p:nvPicPr>
        <p:blipFill>
          <a:blip r:embed="rId3"/>
          <a:stretch/>
        </p:blipFill>
        <p:spPr>
          <a:xfrm>
            <a:off x="7924680" y="6454800"/>
            <a:ext cx="7876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7"/>
          <p:cNvSpPr txBox="1"/>
          <p:nvPr/>
        </p:nvSpPr>
        <p:spPr>
          <a:xfrm>
            <a:off x="2854440" y="152280"/>
            <a:ext cx="3317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Interview</a:t>
            </a:r>
            <a:endParaRPr b="1" lang="en-US" sz="36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44520" y="1089000"/>
            <a:ext cx="86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erview  Yaoming,Liuxiang,Zhaowe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0" y="1673280"/>
            <a:ext cx="9144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hat do you do at the weekend?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hat do you do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in the morning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in the afternoon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What do you do </a:t>
            </a:r>
            <a:r>
              <a:rPr b="1" i="1" lang="en-US" sz="3800" spc="-1" strike="noStrike">
                <a:solidFill>
                  <a:srgbClr val="ff0000"/>
                </a:solidFill>
                <a:latin typeface="Times New Roman"/>
              </a:rPr>
              <a:t>at 8 o’clock in the afternoon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8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hat’s your favorite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colou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o you like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oranges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0" y="1854360"/>
            <a:ext cx="88920" cy="4005000"/>
          </a:xfrm>
          <a:custGeom>
            <a:avLst/>
            <a:gdLst>
              <a:gd name="textAreaLeft" fmla="*/ 25920 w 88920"/>
              <a:gd name="textAreaRight" fmla="*/ 89280 w 88920"/>
              <a:gd name="textAreaTop" fmla="*/ 166680 h 4005000"/>
              <a:gd name="textAreaBottom" fmla="*/ 3838320 h 40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46" name="Picture 14" descr="按钮-返回-1"/>
          <p:cNvPicPr/>
          <p:nvPr/>
        </p:nvPicPr>
        <p:blipFill>
          <a:blip r:embed="rId2"/>
          <a:stretch/>
        </p:blipFill>
        <p:spPr>
          <a:xfrm>
            <a:off x="7924680" y="6039000"/>
            <a:ext cx="1219320" cy="819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5"/>
          <p:cNvSpPr/>
          <p:nvPr/>
        </p:nvSpPr>
        <p:spPr>
          <a:xfrm>
            <a:off x="3851280" y="2798640"/>
            <a:ext cx="360360" cy="1171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0240 h 1171800"/>
              <a:gd name="textAreaBottom" fmla="*/ 1141560 h 11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按钮-返回-1"/>
          <p:cNvPicPr/>
          <p:nvPr/>
        </p:nvPicPr>
        <p:blipFill>
          <a:blip r:embed="rId2"/>
          <a:stretch/>
        </p:blipFill>
        <p:spPr>
          <a:xfrm>
            <a:off x="7924680" y="5678640"/>
            <a:ext cx="1219320" cy="81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445920" y="6382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468440" y="1538280"/>
            <a:ext cx="695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hat do you do at the weekend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I play football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402000" y="2979720"/>
            <a:ext cx="28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Homework</a:t>
            </a:r>
            <a:endParaRPr b="0" lang="en-US" sz="4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447920" y="365436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view your family members: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 What do you do at the weekend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613080" y="419040"/>
            <a:ext cx="483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Goodbye!</a:t>
            </a:r>
            <a:endParaRPr b="0" lang="en-US" sz="8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54" name="goodbye.wav" descr=""/>
          <p:cNvPicPr/>
          <p:nvPr/>
        </p:nvPicPr>
        <p:blipFill>
          <a:blip r:embed="rId2"/>
          <a:stretch/>
        </p:blipFill>
        <p:spPr>
          <a:xfrm>
            <a:off x="7093080" y="4365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97000" y="572436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0" dur="1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51" dur="1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52" dur="1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631 0.13403 0.03281 0.26806 0.0625 0.26667 C 0.09218 0.26528 0.19739 -0.03611 0.17812 -0.00833 C 0.15885 0.01945 -0.01042 0.35486 -0.05313 0.43334 C -0.09584 0.51181 -0.0724 0.45764 -0.07813 0.4625 E">
                                      <p:cBhvr>
                                        <p:cTn id="154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5062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8"/>
          <p:cNvSpPr/>
          <p:nvPr/>
        </p:nvSpPr>
        <p:spPr>
          <a:xfrm>
            <a:off x="684360" y="907920"/>
            <a:ext cx="2663640" cy="792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DotumChe"/>
              </a:rPr>
              <a:t>WARM-UP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Oval 29"/>
          <p:cNvSpPr/>
          <p:nvPr/>
        </p:nvSpPr>
        <p:spPr>
          <a:xfrm>
            <a:off x="684360" y="1916280"/>
            <a:ext cx="2592360" cy="865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Franklin Gothic Medium"/>
                <a:ea typeface="华文彩云"/>
              </a:rPr>
              <a:t>PRESENTATION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4" name="Oval 35"/>
          <p:cNvSpPr/>
          <p:nvPr/>
        </p:nvSpPr>
        <p:spPr>
          <a:xfrm>
            <a:off x="684360" y="3068640"/>
            <a:ext cx="2592360" cy="865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PRACTI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Oval 36"/>
          <p:cNvSpPr/>
          <p:nvPr/>
        </p:nvSpPr>
        <p:spPr>
          <a:xfrm>
            <a:off x="611280" y="4221000"/>
            <a:ext cx="2592360" cy="865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EXTENTION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AutoShape 42">
            <a:hlinkClick r:id="rId2" action="ppaction://hlinksldjump"/>
          </p:cNvPr>
          <p:cNvSpPr/>
          <p:nvPr/>
        </p:nvSpPr>
        <p:spPr>
          <a:xfrm>
            <a:off x="3708360" y="836640"/>
            <a:ext cx="1440000" cy="792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Sing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AutoShape 44">
            <a:hlinkClick r:id="rId3" action="ppaction://hlinksldjump"/>
          </p:cNvPr>
          <p:cNvSpPr/>
          <p:nvPr/>
        </p:nvSpPr>
        <p:spPr>
          <a:xfrm>
            <a:off x="3708360" y="1916280"/>
            <a:ext cx="1513080" cy="936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Guess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AutoShape 45">
            <a:hlinkClick r:id="rId4" action="ppaction://hlinksldjump"/>
          </p:cNvPr>
          <p:cNvSpPr/>
          <p:nvPr/>
        </p:nvSpPr>
        <p:spPr>
          <a:xfrm>
            <a:off x="3564000" y="3213000"/>
            <a:ext cx="1800000" cy="792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Let say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AutoShape 46">
            <a:hlinkClick r:id="rId5" action="ppaction://hlinksldjump"/>
          </p:cNvPr>
          <p:cNvSpPr/>
          <p:nvPr/>
        </p:nvSpPr>
        <p:spPr>
          <a:xfrm>
            <a:off x="7137360" y="3203640"/>
            <a:ext cx="1484280" cy="792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Chan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0" name="AutoShape 47">
            <a:hlinkClick r:id="rId6" action="ppaction://hlinksldjump"/>
          </p:cNvPr>
          <p:cNvSpPr/>
          <p:nvPr/>
        </p:nvSpPr>
        <p:spPr>
          <a:xfrm>
            <a:off x="5508720" y="1916280"/>
            <a:ext cx="2519280" cy="792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et’s learn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AutoShape 49">
            <a:hlinkClick r:id="rId7" action="ppaction://hlinksldjump"/>
          </p:cNvPr>
          <p:cNvSpPr/>
          <p:nvPr/>
        </p:nvSpPr>
        <p:spPr>
          <a:xfrm>
            <a:off x="5508720" y="3213000"/>
            <a:ext cx="1538280" cy="792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Listen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AutoShape 50">
            <a:hlinkClick r:id="rId8" action="ppaction://hlinksldjump"/>
          </p:cNvPr>
          <p:cNvSpPr/>
          <p:nvPr/>
        </p:nvSpPr>
        <p:spPr>
          <a:xfrm>
            <a:off x="3635280" y="429264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Interview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63" name="Object 51"/>
          <p:cNvGraphicFramePr/>
          <p:nvPr/>
        </p:nvGraphicFramePr>
        <p:xfrm>
          <a:off x="4437000" y="5057640"/>
          <a:ext cx="1685880" cy="180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Object 51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37000" y="5057640"/>
                    <a:ext cx="1685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AutoShape 53">
            <a:hlinkClick r:id="rId11" action="ppaction://hlinksldjump"/>
          </p:cNvPr>
          <p:cNvSpPr/>
          <p:nvPr/>
        </p:nvSpPr>
        <p:spPr>
          <a:xfrm>
            <a:off x="6372360" y="4284720"/>
            <a:ext cx="2160360" cy="792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Goodby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826920" y="1413000"/>
            <a:ext cx="3600720" cy="3420360"/>
          </a:xfrm>
          <a:prstGeom prst="rect">
            <a:avLst/>
          </a:prstGeom>
          <a:solidFill>
            <a:srgbClr val="00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Let’s sing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and 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do actions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67" name="Picture 12" descr="按钮-返回-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112536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781680" y="601020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6"/>
          <p:cNvSpPr/>
          <p:nvPr/>
        </p:nvSpPr>
        <p:spPr>
          <a:xfrm rot="20607000">
            <a:off x="0" y="1052280"/>
            <a:ext cx="7675560" cy="1873080"/>
          </a:xfrm>
          <a:prstGeom prst="parallelogram">
            <a:avLst>
              <a:gd name="adj" fmla="val 102446"/>
            </a:avLst>
          </a:prstGeom>
          <a:solidFill>
            <a:srgbClr val="99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6600cc"/>
                </a:solidFill>
                <a:uFillTx/>
                <a:latin typeface="Monotype Corsiva"/>
              </a:rPr>
              <a:t>Guessing game</a:t>
            </a:r>
            <a:endParaRPr b="0" lang="en-US" sz="8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Text Box 9">
            <a:hlinkClick r:id="rId2" action="ppaction://hlinksldjump"/>
          </p:cNvPr>
          <p:cNvSpPr/>
          <p:nvPr/>
        </p:nvSpPr>
        <p:spPr>
          <a:xfrm>
            <a:off x="1547640" y="3851280"/>
            <a:ext cx="180036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Listen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Text Box 11">
            <a:hlinkClick r:id="rId3" action="ppaction://hlinksldjump"/>
          </p:cNvPr>
          <p:cNvSpPr/>
          <p:nvPr/>
        </p:nvSpPr>
        <p:spPr>
          <a:xfrm>
            <a:off x="4346640" y="3114720"/>
            <a:ext cx="9349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Do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72" name="Picture 12" descr="按钮-返回-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16000" y="5805360"/>
            <a:ext cx="1219320" cy="1052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>
            <a:hlinkClick r:id="rId7" action="ppaction://hlinksldjump"/>
          </p:cNvPr>
          <p:cNvSpPr/>
          <p:nvPr/>
        </p:nvSpPr>
        <p:spPr>
          <a:xfrm>
            <a:off x="6237360" y="2664000"/>
            <a:ext cx="225108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Number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返回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6520" y="6095880"/>
            <a:ext cx="71748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1"/>
          <p:cNvPicPr/>
          <p:nvPr/>
        </p:nvPicPr>
        <p:blipFill>
          <a:blip r:embed="rId3"/>
          <a:stretch/>
        </p:blipFill>
        <p:spPr>
          <a:xfrm>
            <a:off x="3357720" y="1673280"/>
            <a:ext cx="2520720" cy="335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play basketball"/>
          <p:cNvPicPr/>
          <p:nvPr/>
        </p:nvPicPr>
        <p:blipFill>
          <a:blip r:embed="rId4"/>
          <a:stretch/>
        </p:blipFill>
        <p:spPr>
          <a:xfrm>
            <a:off x="0" y="1719360"/>
            <a:ext cx="280836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play football"/>
          <p:cNvPicPr/>
          <p:nvPr/>
        </p:nvPicPr>
        <p:blipFill>
          <a:blip r:embed="rId5"/>
          <a:stretch/>
        </p:blipFill>
        <p:spPr>
          <a:xfrm>
            <a:off x="6335640" y="1700280"/>
            <a:ext cx="2808360" cy="3284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4"/>
          <p:cNvSpPr/>
          <p:nvPr/>
        </p:nvSpPr>
        <p:spPr>
          <a:xfrm>
            <a:off x="614880" y="404640"/>
            <a:ext cx="4131000" cy="7642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Listen and gue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9" descr="b"/>
          <p:cNvPicPr/>
          <p:nvPr/>
        </p:nvPicPr>
        <p:blipFill>
          <a:blip r:embed="rId1"/>
          <a:stretch/>
        </p:blipFill>
        <p:spPr>
          <a:xfrm>
            <a:off x="3222720" y="3384720"/>
            <a:ext cx="2774880" cy="2774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按钮-返回-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04512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watching tv"/>
          <p:cNvPicPr/>
          <p:nvPr/>
        </p:nvPicPr>
        <p:blipFill>
          <a:blip r:embed="rId4"/>
          <a:stretch/>
        </p:blipFill>
        <p:spPr>
          <a:xfrm>
            <a:off x="0" y="0"/>
            <a:ext cx="2975040" cy="2338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reading book"/>
          <p:cNvPicPr/>
          <p:nvPr/>
        </p:nvPicPr>
        <p:blipFill>
          <a:blip r:embed="rId5"/>
          <a:stretch/>
        </p:blipFill>
        <p:spPr>
          <a:xfrm>
            <a:off x="6624720" y="3429000"/>
            <a:ext cx="2519280" cy="242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go fishing 1"/>
          <p:cNvPicPr/>
          <p:nvPr/>
        </p:nvPicPr>
        <p:blipFill>
          <a:blip r:embed="rId6"/>
          <a:stretch/>
        </p:blipFill>
        <p:spPr>
          <a:xfrm>
            <a:off x="0" y="3141720"/>
            <a:ext cx="2627280" cy="295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riding bike"/>
          <p:cNvPicPr/>
          <p:nvPr/>
        </p:nvPicPr>
        <p:blipFill>
          <a:blip r:embed="rId7"/>
          <a:stretch/>
        </p:blipFill>
        <p:spPr>
          <a:xfrm>
            <a:off x="6632640" y="0"/>
            <a:ext cx="2511360" cy="25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游泳1"/>
          <p:cNvPicPr/>
          <p:nvPr/>
        </p:nvPicPr>
        <p:blipFill>
          <a:blip r:embed="rId8"/>
          <a:stretch/>
        </p:blipFill>
        <p:spPr>
          <a:xfrm>
            <a:off x="3492360" y="0"/>
            <a:ext cx="23749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7"/>
          <p:cNvSpPr/>
          <p:nvPr/>
        </p:nvSpPr>
        <p:spPr>
          <a:xfrm>
            <a:off x="541800" y="1844640"/>
            <a:ext cx="19958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tch TV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134160" y="1773360"/>
            <a:ext cx="2681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o swimming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590160" y="1989000"/>
            <a:ext cx="19958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ide bike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612720" y="5445000"/>
            <a:ext cx="2073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o fishing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3402000" y="5408640"/>
            <a:ext cx="25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916680" y="5157720"/>
            <a:ext cx="2225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ad book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3" descr="b"/>
          <p:cNvPicPr/>
          <p:nvPr/>
        </p:nvPicPr>
        <p:blipFill>
          <a:blip r:embed="rId1"/>
          <a:stretch/>
        </p:blipFill>
        <p:spPr>
          <a:xfrm>
            <a:off x="3086280" y="3159000"/>
            <a:ext cx="2849400" cy="284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按钮-返回-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04512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watching tv"/>
          <p:cNvPicPr/>
          <p:nvPr/>
        </p:nvPicPr>
        <p:blipFill>
          <a:blip r:embed="rId4"/>
          <a:stretch/>
        </p:blipFill>
        <p:spPr>
          <a:xfrm>
            <a:off x="0" y="0"/>
            <a:ext cx="2975040" cy="233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reading book"/>
          <p:cNvPicPr/>
          <p:nvPr/>
        </p:nvPicPr>
        <p:blipFill>
          <a:blip r:embed="rId5"/>
          <a:stretch/>
        </p:blipFill>
        <p:spPr>
          <a:xfrm>
            <a:off x="6624720" y="3249720"/>
            <a:ext cx="2519280" cy="242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go fishing 1"/>
          <p:cNvPicPr/>
          <p:nvPr/>
        </p:nvPicPr>
        <p:blipFill>
          <a:blip r:embed="rId6"/>
          <a:stretch/>
        </p:blipFill>
        <p:spPr>
          <a:xfrm>
            <a:off x="0" y="3068640"/>
            <a:ext cx="2627280" cy="295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riding bike"/>
          <p:cNvPicPr/>
          <p:nvPr/>
        </p:nvPicPr>
        <p:blipFill>
          <a:blip r:embed="rId7"/>
          <a:stretch/>
        </p:blipFill>
        <p:spPr>
          <a:xfrm>
            <a:off x="6632640" y="0"/>
            <a:ext cx="2511360" cy="25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游泳1"/>
          <p:cNvPicPr/>
          <p:nvPr/>
        </p:nvPicPr>
        <p:blipFill>
          <a:blip r:embed="rId8"/>
          <a:stretch/>
        </p:blipFill>
        <p:spPr>
          <a:xfrm>
            <a:off x="3492360" y="0"/>
            <a:ext cx="2374920" cy="2276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541800" y="1844640"/>
            <a:ext cx="19958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tch TV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404160" y="1763640"/>
            <a:ext cx="2681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o swimming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590160" y="1989000"/>
            <a:ext cx="19958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ide bike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12720" y="5445000"/>
            <a:ext cx="2073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o fishing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348000" y="5300640"/>
            <a:ext cx="25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916680" y="5157720"/>
            <a:ext cx="2225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ad book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792000" y="2394000"/>
            <a:ext cx="14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3716280" y="5943600"/>
            <a:ext cx="14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821640" y="2438280"/>
            <a:ext cx="14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3807000" y="2438280"/>
            <a:ext cx="14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792000" y="5943600"/>
            <a:ext cx="14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7542360" y="5499000"/>
            <a:ext cx="40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3"/>
          <p:cNvSpPr/>
          <p:nvPr/>
        </p:nvSpPr>
        <p:spPr>
          <a:xfrm>
            <a:off x="0" y="907920"/>
            <a:ext cx="5580000" cy="1008360"/>
          </a:xfrm>
          <a:prstGeom prst="wedgeRoundRectCallout">
            <a:avLst>
              <a:gd name="adj1" fmla="val -21921"/>
              <a:gd name="adj2" fmla="val 9645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 swimming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at the weekend.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at do you do at the weekend?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2" name="Picture 6" descr="Miss White"/>
          <p:cNvPicPr/>
          <p:nvPr/>
        </p:nvPicPr>
        <p:blipFill>
          <a:blip r:embed="rId1"/>
          <a:stretch/>
        </p:blipFill>
        <p:spPr>
          <a:xfrm>
            <a:off x="324000" y="2367000"/>
            <a:ext cx="1919160" cy="4491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2854440" y="152280"/>
            <a:ext cx="3317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Let's learn</a:t>
            </a:r>
            <a:endParaRPr b="1" lang="en-US" sz="36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Picture 7" descr="Mike"/>
          <p:cNvPicPr/>
          <p:nvPr/>
        </p:nvPicPr>
        <p:blipFill>
          <a:blip r:embed="rId2"/>
          <a:stretch/>
        </p:blipFill>
        <p:spPr>
          <a:xfrm>
            <a:off x="2556000" y="3273480"/>
            <a:ext cx="1320840" cy="3584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4"/>
          <p:cNvSpPr/>
          <p:nvPr/>
        </p:nvSpPr>
        <p:spPr>
          <a:xfrm>
            <a:off x="4859280" y="3645000"/>
            <a:ext cx="3816360" cy="1009440"/>
          </a:xfrm>
          <a:prstGeom prst="wedgeRoundRectCallout">
            <a:avLst>
              <a:gd name="adj1" fmla="val -81824"/>
              <a:gd name="adj2" fmla="val -2845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 football.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6" name="Picture 16" descr="按钮-返回-1"/>
          <p:cNvPicPr/>
          <p:nvPr/>
        </p:nvPicPr>
        <p:blipFill>
          <a:blip r:embed="rId3"/>
          <a:stretch/>
        </p:blipFill>
        <p:spPr>
          <a:xfrm>
            <a:off x="7924680" y="6045120"/>
            <a:ext cx="1219320" cy="8128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7"/>
          <p:cNvGrpSpPr/>
          <p:nvPr/>
        </p:nvGrpSpPr>
        <p:grpSpPr>
          <a:xfrm>
            <a:off x="0" y="762120"/>
            <a:ext cx="9144000" cy="6095880"/>
            <a:chOff x="0" y="762120"/>
            <a:chExt cx="9144000" cy="6095880"/>
          </a:xfrm>
        </p:grpSpPr>
        <p:grpSp>
          <p:nvGrpSpPr>
            <p:cNvPr id="118" name="Group 24"/>
            <p:cNvGrpSpPr/>
            <p:nvPr/>
          </p:nvGrpSpPr>
          <p:grpSpPr>
            <a:xfrm>
              <a:off x="0" y="762120"/>
              <a:ext cx="9144000" cy="6095880"/>
              <a:chOff x="0" y="762120"/>
              <a:chExt cx="9144000" cy="6095880"/>
            </a:xfrm>
          </p:grpSpPr>
          <p:sp>
            <p:nvSpPr>
              <p:cNvPr id="119" name="Rectangle 5"/>
              <p:cNvSpPr/>
              <p:nvPr/>
            </p:nvSpPr>
            <p:spPr>
              <a:xfrm>
                <a:off x="0" y="762120"/>
                <a:ext cx="9144000" cy="6095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cc"/>
                    </a:solidFill>
                    <a:latin typeface="Times New Roman"/>
                  </a:rPr>
                  <a:t>       </a:t>
                </a:r>
                <a:r>
                  <a:rPr b="0" lang="zh-CN" sz="2400" spc="-1" strike="noStrike">
                    <a:solidFill>
                      <a:srgbClr val="6600cc"/>
                    </a:solidFill>
                    <a:latin typeface="Times New Roman"/>
                  </a:rPr>
                  <a:t>日历的图片</a:t>
                </a:r>
                <a:endParaRPr b="0" lang="en-US" sz="2400" spc="-1" strike="noStrike">
                  <a:solidFill>
                    <a:srgbClr val="6600cc"/>
                  </a:solidFill>
                  <a:latin typeface="Times New Roman"/>
                </a:endParaRPr>
              </a:p>
            </p:txBody>
          </p:sp>
          <p:pic>
            <p:nvPicPr>
              <p:cNvPr id="120" name="Picture 21" descr="日历"/>
              <p:cNvPicPr/>
              <p:nvPr/>
            </p:nvPicPr>
            <p:blipFill>
              <a:blip r:embed="rId4"/>
              <a:stretch/>
            </p:blipFill>
            <p:spPr>
              <a:xfrm>
                <a:off x="0" y="762120"/>
                <a:ext cx="9144000" cy="520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26"/>
            <p:cNvSpPr/>
            <p:nvPr/>
          </p:nvSpPr>
          <p:spPr>
            <a:xfrm>
              <a:off x="2666880" y="5943600"/>
              <a:ext cx="3886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at the weekend</a:t>
              </a:r>
              <a:endParaRPr b="0" lang="en-US" sz="4400" spc="-1" strike="noStrike">
                <a:solidFill>
                  <a:srgbClr val="66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6"/>
          <p:cNvSpPr/>
          <p:nvPr/>
        </p:nvSpPr>
        <p:spPr>
          <a:xfrm>
            <a:off x="5105520" y="1268280"/>
            <a:ext cx="4038480" cy="55897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5589720"/>
              <a:gd name="textAreaBottom" fmla="*/ 5392800 h 5589720"/>
            </a:gdLst>
            <a:ahLst/>
            <a:rect l="textAreaLeft" t="textAreaTop" r="textAreaRight" b="textAreaBottom"/>
            <a:pathLst>
              <a:path w="21600" h="29896">
                <a:moveTo>
                  <a:pt x="3600" y="0"/>
                </a:moveTo>
                <a:arcTo wR="3600" hR="3600" stAng="16200000" swAng="-5400000"/>
                <a:lnTo>
                  <a:pt x="0" y="26296"/>
                </a:lnTo>
                <a:arcTo wR="3600" hR="3600" stAng="10800000" swAng="-5400000"/>
                <a:lnTo>
                  <a:pt x="18000" y="29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867280" y="1268280"/>
            <a:ext cx="2519640" cy="52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lay football 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lay table tennis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lay basketball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tch TV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 swimming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 fishing 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ide bikes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268360" y="1916280"/>
            <a:ext cx="2664000" cy="720720"/>
          </a:xfrm>
          <a:prstGeom prst="wedgeRoundRectCallout">
            <a:avLst>
              <a:gd name="adj1" fmla="val -3694"/>
              <a:gd name="adj2" fmla="val 14008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 football.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25" name="Picture 7" descr="Miss White"/>
          <p:cNvPicPr/>
          <p:nvPr/>
        </p:nvPicPr>
        <p:blipFill>
          <a:blip r:embed="rId2"/>
          <a:stretch/>
        </p:blipFill>
        <p:spPr>
          <a:xfrm>
            <a:off x="324000" y="2367000"/>
            <a:ext cx="1919160" cy="449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ike"/>
          <p:cNvPicPr/>
          <p:nvPr/>
        </p:nvPicPr>
        <p:blipFill>
          <a:blip r:embed="rId3"/>
          <a:stretch/>
        </p:blipFill>
        <p:spPr>
          <a:xfrm>
            <a:off x="2556000" y="3273480"/>
            <a:ext cx="1320840" cy="35845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9"/>
          <p:cNvSpPr/>
          <p:nvPr/>
        </p:nvSpPr>
        <p:spPr>
          <a:xfrm>
            <a:off x="0" y="765000"/>
            <a:ext cx="5580000" cy="721080"/>
          </a:xfrm>
          <a:prstGeom prst="wedgeRoundRectCallout">
            <a:avLst>
              <a:gd name="adj1" fmla="val -37796"/>
              <a:gd name="adj2" fmla="val 20242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at do you do at the weekend?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3132000" y="0"/>
            <a:ext cx="331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Let's say</a:t>
            </a:r>
            <a:endParaRPr b="1" lang="en-US" sz="36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11" descr="按钮-返回-1"/>
          <p:cNvPicPr/>
          <p:nvPr/>
        </p:nvPicPr>
        <p:blipFill>
          <a:blip r:embed="rId4"/>
          <a:stretch/>
        </p:blipFill>
        <p:spPr>
          <a:xfrm>
            <a:off x="7924680" y="604512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4:15:23Z</dcterms:created>
  <dc:creator>王萍</dc:creator>
  <dc:description/>
  <dc:language>en-US</dc:language>
  <cp:lastModifiedBy>ydz</cp:lastModifiedBy>
  <dcterms:modified xsi:type="dcterms:W3CDTF">2012-05-14T03:48:46Z</dcterms:modified>
  <cp:revision>42</cp:revision>
  <dc:subject/>
  <dc:title>幻灯片 1</dc:title>
</cp:coreProperties>
</file>